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68B-FD34-490C-A76E-E68CD101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7BD-4384-4AFD-A5AE-BD944840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37A-48E1-4B43-B166-F2A162B4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42A-64F7-4A2F-9B82-D71BA84F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3DE-F88E-42DF-986E-3889693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B62-3007-410E-A8C8-C1CA07EF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3AA5-2716-4A8C-94AB-DFF17762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356-1A81-4293-9279-C4E46B2E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D89-D6D6-4776-B8EE-FC686B7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183-00F6-4B39-A3F1-40660AE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C5E-A0F0-44FD-B952-039C502B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AB4-D489-4EAD-92AD-3C1B06D9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C442-20DD-4A86-B109-46DD7B8015C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133720"/>
            <a:ext cx="853416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Answer the following 2 questions and study for your end of block test (Wednesday 4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th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 November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Arial"/>
              </a:rPr>
              <a:t>I will hold a revision session tomorrow after school for any interested pupils in RE 2 (3.30 – 4.30pm)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Arial"/>
              </a:rPr>
              <a:t>  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844640"/>
            <a:ext cx="853416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1) Discuss how you applied the principles of training when planning a programme to meet your identified fitness needs.  (6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omic Sans MS"/>
              </a:rPr>
              <a:t>2) Having monitored your level of fitness during your training programme you will have made changes.  Explain why these changes were necessary.  Give examples to support your answer.  (4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0-28T09:53:10Z</dcterms:modified>
  <cp:revision>50</cp:revision>
  <dc:subject/>
  <dc:title>Intermediate PE</dc:title>
</cp:coreProperties>
</file>